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138-81DD-465D-8E80-B07659A0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9EB-656C-4EF2-B8B9-B44E9DE6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108-2213-4BF9-8D9A-6F924ED9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056-A3D4-4105-B0E3-17E841DC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D25-D0C6-41BE-B2A5-FEEDB7C9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3D3-A2AB-4D7A-8F8F-B0199343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BBB-AAFB-4AC1-91D8-EDE31C02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1EF-0F73-41B5-997D-C5038089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21E-C443-4542-B45D-355202B2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9E5-6758-4360-B808-5D14D8AC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E84-71E8-4377-A01A-79A54044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EEA-08F6-44CF-B835-BB6F2D37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8C98-AE39-4D8D-87BD-8733D2260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ussian History 1918-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Rise and Fall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y Jake Latini, Luke Marcheski and Isabelle Pil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918-19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18: Czar Nicholas II and his family where mur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ssia soon became the Union of Soviet Scolastic Republic (USSR or the Soviet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18-1922: Civil War between the Red Army and the White Russ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4-1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24: Lenin d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29: Stalin became the dictator of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39: November-USSR and Finland battle for land in the Win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40: February: The Winter War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45-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5-May: Berlin surrenders to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: The USA bombed Hiroshima and Nagaski which ended 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-Stalin dies and is taken over by Nikita Khrushch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7-The Soviet Union launches “Sputnik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-Yuri Gagarin becomes the first astronaut. The Soviet Union builds a wall between East and West Berl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2-198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-The Cuban Missile Cri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4-Khrushchev was replaced by Leonid Brezhne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-The Soviet Union backs North Vietnam against the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-The USSR loses to the US in the hockey Olympics 4 to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5-19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5-Mikhail Gorbachev becomes a leader of the Soviet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The nuclear accident in Chernoby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USSR launches the MIR spac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USSR withdraws from Afghanistan     the Berlin wall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0-1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-Boris Yelstin is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-Russia becomes an independent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Yelstin r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44:31Z</dcterms:created>
  <dc:creator> </dc:creator>
  <dc:description/>
  <dc:language>en-US</dc:language>
  <cp:lastModifiedBy> </cp:lastModifiedBy>
  <dcterms:modified xsi:type="dcterms:W3CDTF">2010-12-15T15:56:33Z</dcterms:modified>
  <cp:revision>3</cp:revision>
  <dc:subject/>
  <dc:title>Russian History 1918-2000</dc:title>
</cp:coreProperties>
</file>